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91D0-BC8F-47BB-93ED-5E9BB112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9DD-B2E5-4934-B248-53A4CF57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BBE-255E-4955-903C-691FA5BD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06C-A6E3-4A8C-BE45-476C2603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562-1778-4592-B52F-2507540B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316D-6EDD-4BB3-8E56-CA8373F2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DC3-DF12-4190-93BC-8AA1B28B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AF6-B85A-4843-8AE1-16EEB67A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E17-7232-4701-86A8-BD7554F3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B67E-471D-4AE0-8D05-D1392533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8BA-57FC-460B-9E49-8AA54211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5D1-7309-4AE3-BBB1-422373C0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14BD-CD90-4B88-BF3C-940892FB6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google.com/imgres?imgurl=http://www.bothbrainsandbeauty.com/wp-content/uploads/2009/12/sulfhydryl-functional-group.jpg&amp;imgrefurl=http://www.bothbrainsandbeauty.com/academic-discussions/chemistry-academic-discussions/functional-groups-429&amp;usg=__omgLD7qH9T-Txe8Hu8GhEBtUjbQ=&amp;h=586&amp;w=618&amp;sz=6&amp;hl=en&amp;start=8&amp;zoom=1&amp;um=1&amp;itbs=1&amp;tbnid=JCxT6_SFvWs_KM:&amp;tbnh=129&amp;tbnw=136&amp;prev=/images%3Fq%3Dsulfhydryl%2Bgroup%26um%3D1%26hl%3Den%26safe%3Dactive%26sa%3DX%26rls%3Dcom.microsoft:*%26tbs%3Disch:1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3962160"/>
            <a:ext cx="55627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Georgia"/>
              </a:rPr>
              <a:t>Sam V., Fernanda R., Ash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1219320"/>
            <a:ext cx="7543800" cy="20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Functional Group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474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426744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philic                                  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14300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200400"/>
            <a:ext cx="4267440" cy="3276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xy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philic                                 P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=all proteins M=most proteins L=lip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2206800" cy="1257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24280" y="990720"/>
            <a:ext cx="4191120" cy="46562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dehydes (if at end of molecu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tone (if in midd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drophilic                                       P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17316" t="40705" r="18872" b="0"/>
          <a:stretch/>
        </p:blipFill>
        <p:spPr>
          <a:xfrm>
            <a:off x="1219320" y="4191120"/>
            <a:ext cx="1981080" cy="12319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4876920" y="2514600"/>
            <a:ext cx="1855800" cy="1828800"/>
            <a:chOff x="4876920" y="2514600"/>
            <a:chExt cx="1855800" cy="1828800"/>
          </a:xfrm>
        </p:grpSpPr>
        <p:pic>
          <p:nvPicPr>
            <p:cNvPr id="52" name="" descr=""/>
            <p:cNvPicPr/>
            <p:nvPr/>
          </p:nvPicPr>
          <p:blipFill>
            <a:blip r:embed="rId3"/>
            <a:srcRect l="75123" t="10123" r="0" b="59499"/>
            <a:stretch/>
          </p:blipFill>
          <p:spPr>
            <a:xfrm>
              <a:off x="4876920" y="2514600"/>
              <a:ext cx="1855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486400" y="2895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705720" y="2057400"/>
            <a:ext cx="1855800" cy="1752480"/>
            <a:chOff x="6705720" y="2057400"/>
            <a:chExt cx="1855800" cy="1752480"/>
          </a:xfrm>
        </p:grpSpPr>
        <p:pic>
          <p:nvPicPr>
            <p:cNvPr id="55" name="" descr=""/>
            <p:cNvPicPr/>
            <p:nvPr/>
          </p:nvPicPr>
          <p:blipFill>
            <a:blip r:embed="rId4"/>
            <a:srcRect l="75123" t="48104" r="0" b="22783"/>
            <a:stretch/>
          </p:blipFill>
          <p:spPr>
            <a:xfrm>
              <a:off x="6705720" y="2057400"/>
              <a:ext cx="1855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31520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59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876560" y="533160"/>
            <a:ext cx="4267080" cy="2895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yhydr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philic                      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533520"/>
            <a:ext cx="426708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phosph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philic                         L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3505320"/>
            <a:ext cx="4114800" cy="3084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philic                          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5178" t="18502" r="25178" b="24807"/>
          <a:stretch/>
        </p:blipFill>
        <p:spPr>
          <a:xfrm>
            <a:off x="2209680" y="1447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1219320"/>
            <a:ext cx="1295640" cy="1228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172200" y="4267080"/>
            <a:ext cx="1238400" cy="1419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57200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=all proteins M=most proteins L=lip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for watchin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lol-cats.jpg image by Ashton_The_Emo_Cutie_Cupcake"/>
          <p:cNvPicPr/>
          <p:nvPr/>
        </p:nvPicPr>
        <p:blipFill>
          <a:blip r:embed="rId2"/>
          <a:stretch/>
        </p:blipFill>
        <p:spPr>
          <a:xfrm>
            <a:off x="4606920" y="0"/>
            <a:ext cx="4537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400" y="20574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Elephant"/>
              </a:rPr>
              <a:t>THE END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3:52:33Z</dcterms:created>
  <dc:creator>xpstudent</dc:creator>
  <dc:description/>
  <dc:language>en-US</dc:language>
  <cp:lastModifiedBy>xpstudent</cp:lastModifiedBy>
  <dcterms:modified xsi:type="dcterms:W3CDTF">2010-09-23T14:35:31Z</dcterms:modified>
  <cp:revision>6</cp:revision>
  <dc:subject/>
  <dc:title>Functional Groups</dc:title>
</cp:coreProperties>
</file>